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C85-EE8F-41DC-BAAD-0441FD2F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374-D7CC-42D1-8ABD-3168CE9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578-B8AB-46D0-937E-64080F44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7DC-ECD5-45AB-B212-1E730568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977-262A-4106-88D7-C9378CF1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4595-F5A2-4414-92C5-CEBBAB39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B3E1-64CF-4931-A237-28F6C15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A27-9BB0-44AD-B6CC-2B3DD982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65E5-13DD-4EDD-AB36-EF8C9399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FFD9-C90D-45D1-9CBD-FBEDBF9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7FF-A2AF-48B0-B908-8D985649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E59-6772-485C-A6CF-077A77E0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5BB7-C705-4EDF-B5DA-A1213F5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C4D-704A-4705-97E7-5F146CF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BB8B-B290-4B11-89AB-BFF9420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D66-4E5C-4633-BCCC-CA4E7300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58B3-26AF-4DE4-987A-748A5BC9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2B0D9-2E48-4F5A-ADBA-9472B742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4BDB-DA70-4A9D-96BD-76D13640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429C-9220-4EF9-8C85-4EA77A3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EE83B-65D4-4BEC-A26F-758EE24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08410-99A7-4123-AAD4-C5434E41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CC0-0884-4715-9A21-06B0ABEA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4984-94A4-4D13-8C4C-EC9C1B3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F8E9-115A-4F27-908C-005C259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842D-DAB5-494B-BE60-4AC90C46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3FD85-77FC-410C-85E4-18035610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4096-D2BB-4B76-A468-91A3B39E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52E0-F706-410C-9ECE-4AA0DB59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3AD7-51CA-418B-AD49-F262077D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774F-35B2-4781-BE74-9EE15D81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C9141-829D-495A-8711-ECEBAC1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E282-98BD-41B1-85F8-ED239F24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B31-834A-487E-8BAA-1F17025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41FD1-3B15-43AC-A8D0-3ECF8813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772D8-35E2-4231-9F88-57F0B3CF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92AA-80C9-4FF9-B31A-C0C726BD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0A94-B985-41C6-B294-DC4D56C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FBC9D-B435-4CD3-9587-79FA8EA7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31EC0-D5A4-4DEC-91F8-C9E1781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24A3-4F0C-4A04-988E-9B8C551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A7EE-8A78-4173-B9AF-4BF4096C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1F2D9-BDB8-4AF3-BAE5-5F516198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FD568-8E96-4202-830E-BB5D7D61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D65-AC4B-4C50-849D-EB8E6191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A8E0-4315-4197-B7CD-C8BE955A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6D1C-68D5-416E-87F3-3A54E464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0545-B844-4F8E-8ADE-58D80D2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405E7-B807-4256-932B-75EC9D2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4341-7512-41E7-A89D-6F2EE2E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6573-6BE2-41AD-A5F6-2977EEC2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9AEAF-452B-4911-9091-DF56FFAC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C70CD-2524-429B-A5B4-61A503F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3B7FC-9B5D-4D2A-9FA8-8267290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FC51-E910-4A0F-A55E-D721BFD0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772-AFE5-4A18-A5C0-B8FA9A0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9AC86-1D65-45BE-9A1F-AE7B5258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F3B-248B-4B7C-BFCE-2107119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0C7D-9558-43B7-9FF4-610C228A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BFF-3E45-41FA-9B95-1CB5BBF3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23AA-B5A8-448D-9B52-D4F84AB3F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CBDA-A606-40F5-857A-2EE1ACC18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D58A-B92F-4650-AF39-45D1E61AE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24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7C0A-E0C4-4B2A-8514-DDA9B40E46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69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E1C4-7859-4378-933A-E22CF7835B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-class.unl.edu/biochem/gp2/m_biology/animation/gene/gene_a2.html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3.html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neurophilosophy.wordpress.com/2007/05/03/transcribe-dna-sequences-into-music/" TargetMode="External"/><Relationship Id="rId2" Type="http://schemas.openxmlformats.org/officeDocument/2006/relationships/hyperlink" Target="http://www.ncbi.nlm.nih.gov/entrez/viewer.fcgi?db=nuccore&amp;id=90903230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you understand th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Bradley Hand ITC"/>
              </a:rPr>
              <a:t>Xie xie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5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Bradley Hand ITC"/>
              </a:rPr>
              <a:t>Thank you</a:t>
            </a:r>
            <a:endParaRPr b="0" lang="en-US" sz="6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267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crib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nd stop 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are cod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3 bases form a codon that codes for a particular amino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ionine amino acid, but also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AA, UGA, U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5" descr="codon"/>
          <p:cNvPicPr/>
          <p:nvPr/>
        </p:nvPicPr>
        <p:blipFill>
          <a:blip r:embed="rId1"/>
          <a:stretch/>
        </p:blipFill>
        <p:spPr>
          <a:xfrm>
            <a:off x="5181480" y="990720"/>
            <a:ext cx="34290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anscription - Step On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Object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647960" cy="5086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562720" y="1066680"/>
            <a:ext cx="3047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RNA Polymerase unwinds and unzips the DNA double helix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_x0012_transcriptionimage                                             0000799F_x000c_languidpuppy                   B20B2331:"/>
          <p:cNvPicPr/>
          <p:nvPr/>
        </p:nvPicPr>
        <p:blipFill>
          <a:blip r:embed="rId1"/>
          <a:stretch/>
        </p:blipFill>
        <p:spPr>
          <a:xfrm>
            <a:off x="2009880" y="184320"/>
            <a:ext cx="512280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ranscription: Step Two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876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polymerase adds on free-floating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, G, C, 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each bind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ps at STOP cod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RNA poly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s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5" descr="E:\temp\dna.bmp"/>
          <p:cNvPicPr/>
          <p:nvPr/>
        </p:nvPicPr>
        <p:blipFill>
          <a:blip r:embed="rId1"/>
          <a:stretch/>
        </p:blipFill>
        <p:spPr>
          <a:xfrm>
            <a:off x="5105520" y="1828800"/>
            <a:ext cx="3733560" cy="42670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6"/>
          <p:cNvSpPr/>
          <p:nvPr/>
        </p:nvSpPr>
        <p:spPr>
          <a:xfrm>
            <a:off x="6229080" y="55627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Garamond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la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 mRNA message leaves the nucleus, RNA editing &amp; modifications occ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&amp; RNA contain sequences that do not code for proteins = IN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NS = IN (BETWEEN) 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s that code for proteins are expressed = EX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ONS = EX (PRESSED SEQUENCE) 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exon2"/>
          <p:cNvPicPr/>
          <p:nvPr/>
        </p:nvPicPr>
        <p:blipFill>
          <a:blip r:embed="rId1"/>
          <a:stretch/>
        </p:blipFill>
        <p:spPr>
          <a:xfrm>
            <a:off x="1219320" y="457200"/>
            <a:ext cx="67816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d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still in the nucle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NS are cut out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NS are spliced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 RNA sequence is sent to the cytoplasm for trans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RNA splicing.gif"/>
          <p:cNvPicPr/>
          <p:nvPr/>
        </p:nvPicPr>
        <p:blipFill>
          <a:blip r:embed="rId1"/>
          <a:stretch/>
        </p:blipFill>
        <p:spPr>
          <a:xfrm>
            <a:off x="457200" y="380880"/>
            <a:ext cx="800100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que combinations of exons allow for genetic var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Content Placeholder 3" descr="alternative_splicing.gif"/>
          <p:cNvPicPr/>
          <p:nvPr/>
        </p:nvPicPr>
        <p:blipFill>
          <a:blip r:embed="rId1"/>
          <a:stretch/>
        </p:blipFill>
        <p:spPr>
          <a:xfrm>
            <a:off x="609480" y="1676520"/>
            <a:ext cx="772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codon"/>
          <p:cNvPicPr/>
          <p:nvPr/>
        </p:nvPicPr>
        <p:blipFill>
          <a:blip r:embed="rId1"/>
          <a:stretch/>
        </p:blipFill>
        <p:spPr>
          <a:xfrm>
            <a:off x="533520" y="1371600"/>
            <a:ext cx="2895480" cy="52578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-class.unl.edu/biochem/gp2/m_biology/animation/gene/gene_a2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5029200" cy="4525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cription ani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2520" y="609480"/>
            <a:ext cx="4952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CENTRAL DOGM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OF 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18" name="Picture 5" descr="http://carissalyn.com/fig1.jpg"/>
          <p:cNvPicPr/>
          <p:nvPr/>
        </p:nvPicPr>
        <p:blipFill>
          <a:blip r:embed="rId1"/>
          <a:stretch/>
        </p:blipFill>
        <p:spPr>
          <a:xfrm>
            <a:off x="228600" y="304920"/>
            <a:ext cx="3724200" cy="594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http://www.medgadget.com/archives/img/sirna.jpg"/>
          <p:cNvPicPr/>
          <p:nvPr/>
        </p:nvPicPr>
        <p:blipFill>
          <a:blip r:embed="rId2"/>
          <a:stretch/>
        </p:blipFill>
        <p:spPr>
          <a:xfrm>
            <a:off x="2743200" y="2362320"/>
            <a:ext cx="60958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central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ww.genomatix.de/online_help/help_gems/genomic_DNA.gif"/>
          <p:cNvPicPr/>
          <p:nvPr/>
        </p:nvPicPr>
        <p:blipFill>
          <a:blip r:embed="rId2"/>
          <a:stretch/>
        </p:blipFill>
        <p:spPr>
          <a:xfrm>
            <a:off x="914400" y="1981080"/>
            <a:ext cx="77421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exon2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RNA leaves the nucleu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sage is read at the rib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Codon (3 letter message) is translated into 1 amino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NA molecule has one end (anticodon) that matches the mRNA .  Each anticodon specifies an amino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ino acids are bonded together as peptide chains…which fold into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netic Cod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letters = 1 codon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1 amino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bio_ch12_6200"/>
          <p:cNvPicPr/>
          <p:nvPr/>
        </p:nvPicPr>
        <p:blipFill>
          <a:blip r:embed="rId1"/>
          <a:stretch/>
        </p:blipFill>
        <p:spPr>
          <a:xfrm>
            <a:off x="1219320" y="1828800"/>
            <a:ext cx="6400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-class.unl.edu/biochem/gp2/m_biology/animation/gene/gene_a3.html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tion of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3" descr="translation.gif"/>
          <p:cNvPicPr/>
          <p:nvPr/>
        </p:nvPicPr>
        <p:blipFill>
          <a:blip r:embed="rId2"/>
          <a:stretch/>
        </p:blipFill>
        <p:spPr>
          <a:xfrm>
            <a:off x="304920" y="1600200"/>
            <a:ext cx="4943520" cy="4819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ttp://www.geneticengineering.org/chemis/Chemis-NucleicAcid/Graphics/tRNA.jpg"/>
          <p:cNvPicPr/>
          <p:nvPr/>
        </p:nvPicPr>
        <p:blipFill>
          <a:blip r:embed="rId3"/>
          <a:stretch/>
        </p:blipFill>
        <p:spPr>
          <a:xfrm>
            <a:off x="5181480" y="1752480"/>
            <a:ext cx="364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genome.imim.es/courses/Madrid04/exercises/ensembl/images/ribosome.jpg"/>
          <p:cNvPicPr/>
          <p:nvPr/>
        </p:nvPicPr>
        <p:blipFill>
          <a:blip r:embed="rId1"/>
          <a:stretch/>
        </p:blipFill>
        <p:spPr>
          <a:xfrm>
            <a:off x="380880" y="685800"/>
            <a:ext cx="81536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www.scq.ubc.ca/wp-content/translation_01.gif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actice with this sequ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GATGTTCCGCCGTACGTCGTAACC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CTACAAGGCGGCATGCAGCATTGGC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bottom strand as the complement to the mRNA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that mea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nt: Look for where it starts.  How do you kno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you’ve found the “reading frame”, write in tri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RN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your genetic code wheel to write the amino acid sequence.  How will you know when to sto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y again without h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: CCGTCATGTTCGCGCTACAAATGAAAT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GCAGTACAAGCGCGATGTTTACTTT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pept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 &amp;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4560" y="23623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w do we make sense of the DNA messag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otype to Phen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" descr="http://www.pingrysmartteam.com/images/model_pics/sigma%20factor-DNA%20promoter%20complex.jpg"/>
          <p:cNvPicPr/>
          <p:nvPr/>
        </p:nvPicPr>
        <p:blipFill>
          <a:blip r:embed="rId1"/>
          <a:stretch/>
        </p:blipFill>
        <p:spPr>
          <a:xfrm>
            <a:off x="2514600" y="3581280"/>
            <a:ext cx="56386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enome is an entire set of g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ahashi and Miller (UCLA, 200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urophilosophy.wordpress.com/2007/05/03/transcribe-dna-sequences-into-mus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music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cbi.nlm.nih.gov/entrez/viewer.fcgi?db=nuccore&amp;id=90903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ington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entral"/>
          <p:cNvPicPr/>
          <p:nvPr/>
        </p:nvPicPr>
        <p:blipFill>
          <a:blip r:embed="rId1"/>
          <a:stretch/>
        </p:blipFill>
        <p:spPr>
          <a:xfrm>
            <a:off x="6858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</a:rPr>
              <a:t>Central Dogma of Cell Biolog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codes for DNA =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codes for RNA = TRAN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codes for protein =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63360" y="-136440"/>
            <a:ext cx="703908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entraldogma2.gif"/>
          <p:cNvPicPr/>
          <p:nvPr/>
        </p:nvPicPr>
        <p:blipFill>
          <a:blip r:embed="rId1"/>
          <a:stretch/>
        </p:blipFill>
        <p:spPr>
          <a:xfrm>
            <a:off x="228600" y="4511520"/>
            <a:ext cx="867096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   vs.  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-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s at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winds with Heli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of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1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2 D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new, ½ 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s at promoter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need Helicase to unw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NA 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proofr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with 1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with same DNA and 1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3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DNA to 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place in the 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main step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NA pol binds to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cleotide chain is built, complementary to the DNA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NA pol stops transcrib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know what to transcrib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stic region of DNA that signals the start of a ge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quence of letters that signals “gene ahead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TA box” and enhan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promoter_f.jpg"/>
          <p:cNvPicPr/>
          <p:nvPr/>
        </p:nvPicPr>
        <p:blipFill>
          <a:blip r:embed="rId1"/>
          <a:stretch/>
        </p:blipFill>
        <p:spPr>
          <a:xfrm>
            <a:off x="609480" y="3886200"/>
            <a:ext cx="8134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mo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ontent Placeholder 3" descr="TATA box.gif"/>
          <p:cNvPicPr/>
          <p:nvPr/>
        </p:nvPicPr>
        <p:blipFill>
          <a:blip r:embed="rId1"/>
          <a:stretch/>
        </p:blipFill>
        <p:spPr>
          <a:xfrm>
            <a:off x="1171440" y="1600200"/>
            <a:ext cx="67532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0:35:33Z</dcterms:created>
  <dc:creator>Joanne Lilliendahl</dc:creator>
  <dc:description/>
  <dc:language>en-US</dc:language>
  <cp:lastModifiedBy>udsd</cp:lastModifiedBy>
  <dcterms:modified xsi:type="dcterms:W3CDTF">2008-05-20T20:54:16Z</dcterms:modified>
  <cp:revision>39</cp:revision>
  <dc:subject/>
  <dc:title>Slide 1</dc:title>
</cp:coreProperties>
</file>